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B7779-CB58-4733-9D61-90B68EB25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BF62B-2793-4992-A089-CE794EB94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E988D-BF53-420D-BBC7-FF44D6086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AE8DE-CD06-4AE8-9C8F-21E1B2474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9A299-8B20-4A89-9A2F-9DB5FE9E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54E1-419B-482D-BDBD-26FB0917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0398F-8AE8-458F-94A9-21C5FC256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0208-CDDB-445C-9484-13BFA1D3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8BD10-7933-4FFE-A256-96E726789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BBBB-C051-4003-A5E5-DC8ACDBA9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B480-7548-44BC-8E69-B3D7CC850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101B-A1E3-4A47-A318-3D144C5A7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A9D4-9874-4BA7-B613-D8DBCDCB66D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29BF-65A0-4B3F-9C57-5293315EC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Kommunikasjon mellom makkere</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8D5E65B2-649C-4796-8809-0F05C926B476}" type="slidenum">
              <a:t>1</a:t>
            </a:fld>
          </a:p>
        </p:txBody>
      </p:sp>
      <p:sp>
        <p:nvSpPr>
          <p:cNvPr id="6" name="PlaceHolder 5"/>
          <p:cNvSpPr>
            <a:spLocks noGrp="1"/>
          </p:cNvSpPr>
          <p:nvPr>
            <p:ph type="dt" idx="1"/>
          </p:nvPr>
        </p:nvSpPr>
        <p:spPr/>
        <p:txBody>
          <a:bodyPr/>
          <a:p>
            <a:fld id="{F6DBFFFE-55A2-4E7E-9252-23C9BD681A9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så lenge narringen ikke er </a:t>
            </a:r>
            <a:r>
              <a:rPr b="1" lang="en-US" sz="2800" spc="-1" strike="noStrike" u="sng">
                <a:solidFill>
                  <a:srgbClr val="000066"/>
                </a:solidFill>
                <a:uFillTx/>
                <a:latin typeface="Arial"/>
                <a:ea typeface="Arial"/>
              </a:rPr>
              <a:t>beskyttet av en skjult makkeravtale eller erfaring</a:t>
            </a:r>
            <a:endParaRPr b="0" lang="en-US" sz="28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kjult makkeravtale – bridgemessig vurdering</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Det er normalt en skjult makkeravtale eller en erfaringsavtale når avviket fra avtalen er mer enn ett Hp eller et kort i fargelengde og</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paret ikke har noen annen løsning på problem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ne vil vanligvis velge denne løsningen i lignende situasjoner</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 unnlater å gi normal støtte til meldingen. </a:t>
            </a:r>
            <a:br>
              <a:rPr sz="1800"/>
            </a:br>
            <a:r>
              <a:rPr b="1" lang="nb-NO" sz="1800" spc="-1" strike="noStrike">
                <a:solidFill>
                  <a:srgbClr val="990000"/>
                </a:solidFill>
                <a:latin typeface="Times New Roman"/>
              </a:rPr>
              <a:t>(kan regne med at det er en nødmelding eller en psykisk melding) </a:t>
            </a:r>
            <a:endParaRPr b="0" lang="en-US" sz="18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en skjult makkeravtale avsløres, skal den deklareres på vanlig måte. Dersom meldingen ikke er tillatt i turneringen eller systemkategorien må spillerne rette seg etter de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76BAC1D-096B-4B74-9D08-8D4FEDBFAC64}" type="slidenum">
              <a:t>10</a:t>
            </a:fld>
          </a:p>
        </p:txBody>
      </p:sp>
      <p:sp>
        <p:nvSpPr>
          <p:cNvPr id="6" name="PlaceHolder 5"/>
          <p:cNvSpPr>
            <a:spLocks noGrp="1"/>
          </p:cNvSpPr>
          <p:nvPr>
            <p:ph type="dt" idx="1"/>
          </p:nvPr>
        </p:nvSpPr>
        <p:spPr/>
        <p:txBody>
          <a:bodyPr/>
          <a:p>
            <a:fld id="{54038051-3DC1-49CF-AF4B-19F68534711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Arial"/>
              </a:rPr>
              <a:t>En overlagt og grovt villedende melding i forhold til håndens styrke og/eller fargefordeling</a:t>
            </a:r>
            <a:r>
              <a:rPr b="0" lang="en-US" sz="3200" spc="-1" strike="noStrike">
                <a:solidFill>
                  <a:srgbClr val="990000"/>
                </a:solidFill>
                <a:latin typeface="Arial"/>
                <a:ea typeface="Arial"/>
              </a:rPr>
              <a:t>.</a:t>
            </a:r>
            <a:endParaRPr b="0" lang="en-US" sz="3200" spc="-1" strike="noStrike">
              <a:solidFill>
                <a:srgbClr val="990000"/>
              </a:solidFill>
              <a:latin typeface="Times New Roman"/>
            </a:endParaRPr>
          </a:p>
          <a:p>
            <a:pPr marL="343080" indent="-343080">
              <a:spcBef>
                <a:spcPts val="6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Arial"/>
              </a:rPr>
              <a:t>Meldingen er ikke beskyttet av en skjult makkeravtale eller erfari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Arial"/>
              </a:rPr>
              <a:t>TL bør tilkalles når det har vært meldt psykisk ved bordet.</a:t>
            </a:r>
            <a:endParaRPr b="0" lang="en-US" sz="2000" spc="-1" strike="noStrike">
              <a:solidFill>
                <a:srgbClr val="000066"/>
              </a:solidFill>
              <a:latin typeface="Times New Roman"/>
            </a:endParaRPr>
          </a:p>
          <a:p>
            <a:pPr lvl="2" marL="1143000" indent="-228600">
              <a:spcBef>
                <a:spcPts val="400"/>
              </a:spcBef>
              <a:buClr>
                <a:srgbClr val="a50021"/>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ea typeface="Arial"/>
              </a:rPr>
              <a:t>TL skal da kontrollere at betingelsene for at den psykiske meldingen er lovlig er oppfylt.</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ikke skjult avtale når meldingen forekommer svært sjeldent f. eks 1 -2 ganger pr. år</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eldingen skjer rimelig ofte f.eks i annenhver turner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akker ikke svarer på denne meldingen slik han vanligvis svarer på makkers meldinger.</a:t>
            </a:r>
            <a:r>
              <a:rPr b="0" lang="en-US" sz="1400" spc="-1" strike="noStrike">
                <a:solidFill>
                  <a:srgbClr val="000066"/>
                </a:solidFill>
                <a:latin typeface="Times New Roman"/>
                <a:ea typeface="Arial"/>
              </a:rPr>
              <a:t> </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307CC44-FF93-42AA-971E-68C7098FA12B}" type="slidenum">
              <a:t>11</a:t>
            </a:fld>
          </a:p>
        </p:txBody>
      </p:sp>
      <p:sp>
        <p:nvSpPr>
          <p:cNvPr id="6" name="PlaceHolder 5"/>
          <p:cNvSpPr>
            <a:spLocks noGrp="1"/>
          </p:cNvSpPr>
          <p:nvPr>
            <p:ph type="dt" idx="1"/>
          </p:nvPr>
        </p:nvSpPr>
        <p:spPr/>
        <p:txBody>
          <a:bodyPr/>
          <a:p>
            <a:fld id="{568BBB71-D2F5-4CBE-AB92-55012003030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a:t>
            </a:r>
            <a:endParaRPr b="0" lang="en-US" sz="4400" spc="-1" strike="noStrike">
              <a:solidFill>
                <a:srgbClr val="000066"/>
              </a:solidFill>
              <a:latin typeface="Times New Roman"/>
            </a:endParaRPr>
          </a:p>
        </p:txBody>
      </p:sp>
      <p:sp>
        <p:nvSpPr>
          <p:cNvPr id="66" name="PlaceHolder 2"/>
          <p:cNvSpPr>
            <a:spLocks noGrp="1"/>
          </p:cNvSpPr>
          <p:nvPr>
            <p:ph/>
          </p:nvPr>
        </p:nvSpPr>
        <p:spPr>
          <a:xfrm>
            <a:off x="380880" y="1523880"/>
            <a:ext cx="8305920" cy="464832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WBF code of practice: To deem that such an implicit understanding exists it must be determined that the partner of the player who psyches has a heightened awareness that in the given situation the call may be psychic.</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his will be the case only if in the opinion of the committee one of the following circumstances is established: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imilar psychic action has occurred in the partnership on several occasions in the past, and not so long ago that the memory of the actions has faded in the partner's mind - habit is to be identified when an occurrence is so frequent that it may be anticipated; or </a:t>
            </a:r>
            <a:endParaRPr b="0" lang="en-US" sz="2000" spc="-1" strike="noStrike">
              <a:solidFill>
                <a:srgbClr val="99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77CB1CA-6136-44E4-98FA-6B098DB50471}" type="slidenum">
              <a:t>12</a:t>
            </a:fld>
          </a:p>
        </p:txBody>
      </p:sp>
      <p:sp>
        <p:nvSpPr>
          <p:cNvPr id="6" name="PlaceHolder 5"/>
          <p:cNvSpPr>
            <a:spLocks noGrp="1"/>
          </p:cNvSpPr>
          <p:nvPr>
            <p:ph type="dt" idx="1"/>
          </p:nvPr>
        </p:nvSpPr>
        <p:spPr/>
        <p:txBody>
          <a:bodyPr/>
          <a:p>
            <a:fld id="{06262B31-0450-46A9-B517-E76EF46B0AB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I</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in the recent past a similar psychic call has occurred in the partnership and it is considered the memory of it is so fresh that it cannot have faded from mind;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psychic calls of various kinds have occurred in the partnership with such frequency, and sufficiently recently, that the partner is clearly aware of the tendency for such psychic calls to occur;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the members of the partnership are mutually aware of some significant external matter that may help recognition of the psychic call. </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18ADDF9D-18AE-4268-B9E0-50895BD2C739}" type="slidenum">
              <a:t>13</a:t>
            </a:fld>
          </a:p>
        </p:txBody>
      </p:sp>
      <p:sp>
        <p:nvSpPr>
          <p:cNvPr id="6" name="PlaceHolder 5"/>
          <p:cNvSpPr>
            <a:spLocks noGrp="1"/>
          </p:cNvSpPr>
          <p:nvPr>
            <p:ph type="dt" idx="1"/>
          </p:nvPr>
        </p:nvSpPr>
        <p:spPr/>
        <p:txBody>
          <a:bodyPr/>
          <a:p>
            <a:fld id="{7D7E4FEE-BB84-4A26-8C1E-96BB00D4F2D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V</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A psychic call which is found on the above basis to be a matter of partnership understanding is disallowed and an artificial score adjustment may be awarded, together with a procedural penalty to the offending side if deemed appropriate. Players who are found to have any explicit agreement concerning psychic calls, or an implicit agreement concerning a particular kind of psychic call, are to be reminded that they have a partnership agreement that is subject to the regulations established under the authority of Law 40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DE7EBA2A-33B3-4B61-9233-88073764BE6B}" type="slidenum">
              <a:t>14</a:t>
            </a:fld>
          </a:p>
        </p:txBody>
      </p:sp>
      <p:sp>
        <p:nvSpPr>
          <p:cNvPr id="6" name="PlaceHolder 5"/>
          <p:cNvSpPr>
            <a:spLocks noGrp="1"/>
          </p:cNvSpPr>
          <p:nvPr>
            <p:ph type="dt" idx="1"/>
          </p:nvPr>
        </p:nvSpPr>
        <p:spPr/>
        <p:txBody>
          <a:bodyPr/>
          <a:p>
            <a:fld id="{2B3B2E62-22E2-42C0-8929-FB778ED3FFB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V</a:t>
            </a:r>
            <a:endParaRPr b="0" lang="en-US" sz="4400" spc="-1" strike="noStrike">
              <a:solidFill>
                <a:srgbClr val="000066"/>
              </a:solidFill>
              <a:latin typeface="Times New Roman"/>
            </a:endParaRPr>
          </a:p>
        </p:txBody>
      </p:sp>
      <p:sp>
        <p:nvSpPr>
          <p:cNvPr id="72"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Disclosure of psychic tendencie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 partnership may not defend itself against an allegation that its psychic action is based upon an understanding by claiming that, although the partner had an awareness of the possibility of a psychic in the given situation, the partner's actions subsequent to the psychic have been entirely normal.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The opponents are entitled to an equal and timely awareness of any agreement, explicit or implicit, since it may affect their choice of action and for this reason the understanding must be disclosed. </a:t>
            </a:r>
            <a:endParaRPr b="0" lang="en-US" sz="2000" spc="-1" strike="noStrike">
              <a:solidFill>
                <a:srgbClr val="990000"/>
              </a:solidFill>
              <a:latin typeface="Times New Roman"/>
            </a:endParaRPr>
          </a:p>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False carding by defender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lways provided that a true disclosure is made of the agreed meanings and expectations of card plays by defenders,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intermittent false carding by defenders is lawful. </a:t>
            </a:r>
            <a:endParaRPr b="0" lang="en-US" sz="2000" spc="-1" strike="noStrike">
              <a:solidFill>
                <a:srgbClr val="990000"/>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clarer then relies at his own risk upon his reading of the fall of the cards.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A51823A1-075D-4D3D-9AB8-AD4C7ED1D8FC}" type="slidenum">
              <a:t>15</a:t>
            </a:fld>
          </a:p>
        </p:txBody>
      </p:sp>
      <p:sp>
        <p:nvSpPr>
          <p:cNvPr id="6" name="PlaceHolder 5"/>
          <p:cNvSpPr>
            <a:spLocks noGrp="1"/>
          </p:cNvSpPr>
          <p:nvPr>
            <p:ph type="dt" idx="1"/>
          </p:nvPr>
        </p:nvSpPr>
        <p:spPr/>
        <p:txBody>
          <a:bodyPr/>
          <a:p>
            <a:fld id="{EB850F0D-29C4-42D5-A7F2-2351161D101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Falsecarding i motspill</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t er svært liberale regler på dette området så lenge avviket skjer ”intermittent _-  av og til”.</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har krav på å få full kunnskap om avtalen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tspillerne kan ikke ha en skjult avtal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trekker sine slutninger av motstandernes spill på eget ansva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8FED747-70EF-4330-BE15-5F800DDD0992}" type="slidenum">
              <a:t>16</a:t>
            </a:fld>
          </a:p>
        </p:txBody>
      </p:sp>
      <p:sp>
        <p:nvSpPr>
          <p:cNvPr id="6" name="PlaceHolder 5"/>
          <p:cNvSpPr>
            <a:spLocks noGrp="1"/>
          </p:cNvSpPr>
          <p:nvPr>
            <p:ph type="dt" idx="1"/>
          </p:nvPr>
        </p:nvSpPr>
        <p:spPr/>
        <p:txBody>
          <a:bodyPr/>
          <a:p>
            <a:fld id="{88FCA3D3-7862-487C-AB13-9D7AB6E5404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og TL</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sykiske meldinger er fullt tillatt så lenge de tifredsstiller kravene i loven. Lovteksten er tolket i</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LU sine regler om alert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WBF Code of practice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bør tilkalles når det er meldt psykisk slik at han kan </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Registrere at det har skjedd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Kontrollere at meldingen ikke er beskyttet av erfaring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må forhindre at spillere bygger opp uvaner på dette område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6FD2688-5CBA-45AF-B9AE-0DE39FBF540D}" type="slidenum">
              <a:t>17</a:t>
            </a:fld>
          </a:p>
        </p:txBody>
      </p:sp>
      <p:sp>
        <p:nvSpPr>
          <p:cNvPr id="6" name="PlaceHolder 5"/>
          <p:cNvSpPr>
            <a:spLocks noGrp="1"/>
          </p:cNvSpPr>
          <p:nvPr>
            <p:ph type="dt" idx="1"/>
          </p:nvPr>
        </p:nvSpPr>
        <p:spPr/>
        <p:txBody>
          <a:bodyPr/>
          <a:p>
            <a:fld id="{A3FED45D-BC6E-4BA5-B685-1A0CEF8BC0C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Korrekt metode for kommunikasjon mellom makkere</a:t>
            </a:r>
            <a:r>
              <a:rPr b="1"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1. HVORDAN KOMMUNIKASJON FOREGÅR</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Kommunikasjon mellom makkere under meldingsforløpet og spillet skal bare foregå ved hjelp av selve meldingene og spillet.</a:t>
            </a:r>
            <a:endParaRPr b="0" lang="en-US" sz="2000" spc="-1" strike="noStrike">
              <a:solidFill>
                <a:srgbClr val="000066"/>
              </a:solidFill>
              <a:latin typeface="Times New Roman"/>
            </a:endParaRPr>
          </a:p>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2. KORREKT FORM FOR MELDINGER OG SPILL</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Meldinger og spill skal foregå uten særskilte ettertrykk, tonefall eller andre særegenheter, og uten unødig nøling eller hastverk (men arrangøren kan forlange obligatoriske pauser, som for eksempel i første melderunde, etter en advarsel om hoppbud, eller i første stikk).</a:t>
            </a:r>
            <a:endParaRPr b="0" lang="en-US" sz="2000" spc="-1" strike="noStrike">
              <a:solidFill>
                <a:srgbClr val="0000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D3D20A45-69CB-45EA-8DC5-9BDD83F56EED}" type="slidenum">
              <a:t>2</a:t>
            </a:fld>
          </a:p>
        </p:txBody>
      </p:sp>
      <p:sp>
        <p:nvSpPr>
          <p:cNvPr id="6" name="PlaceHolder 5"/>
          <p:cNvSpPr>
            <a:spLocks noGrp="1"/>
          </p:cNvSpPr>
          <p:nvPr>
            <p:ph type="dt" idx="1"/>
          </p:nvPr>
        </p:nvSpPr>
        <p:spPr/>
        <p:txBody>
          <a:bodyPr/>
          <a:p>
            <a:fld id="{9B7F185C-E45E-43D5-8722-053E5C2DFC9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Ukorrekt kommunikasjon mellom makkere</a:t>
            </a:r>
            <a:endParaRPr b="0" lang="en-US" sz="32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UBERETTIGET INFORMASJON</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0" lang="en-US" sz="18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FORHÅNDSAVTALTE KOMMUNIKASJONSMETODER</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0" lang="en-US" sz="1800" spc="-1" strike="noStrike">
              <a:solidFill>
                <a:srgbClr val="000066"/>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EF43EA4D-C382-4032-A398-34FF34F5E891}" type="slidenum">
              <a:t>3</a:t>
            </a:fld>
          </a:p>
        </p:txBody>
      </p:sp>
      <p:sp>
        <p:nvSpPr>
          <p:cNvPr id="6" name="PlaceHolder 5"/>
          <p:cNvSpPr>
            <a:spLocks noGrp="1"/>
          </p:cNvSpPr>
          <p:nvPr>
            <p:ph type="dt" idx="1"/>
          </p:nvPr>
        </p:nvSpPr>
        <p:spPr/>
        <p:txBody>
          <a:bodyPr/>
          <a:p>
            <a:fld id="{81799B50-7861-4EF6-BE00-1ED9AEC793A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 Når en spiller mottar urettmessig informasjon fra sin makker</a:t>
            </a:r>
            <a:endParaRPr b="0" lang="en-US" sz="32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Når en spiller har mottatt urettmessig informasjon fra sin makker</a:t>
            </a:r>
            <a:r>
              <a:rPr b="0" lang="en-US" sz="2000" spc="-1" strike="noStrike">
                <a:solidFill>
                  <a:srgbClr val="990000"/>
                </a:solidFill>
                <a:latin typeface="Arial"/>
                <a:ea typeface="Arial"/>
              </a:rPr>
              <a:t> </a:t>
            </a:r>
            <a:r>
              <a:rPr b="0" lang="en-US" sz="2400" spc="-1" strike="noStrike">
                <a:solidFill>
                  <a:srgbClr val="990000"/>
                </a:solidFill>
                <a:latin typeface="Arial"/>
                <a:ea typeface="Arial"/>
              </a:rPr>
              <a:t>f.eks. via </a:t>
            </a:r>
            <a:endParaRPr b="0" lang="en-US" sz="2400" spc="-1" strike="noStrike">
              <a:solidFill>
                <a:srgbClr val="990000"/>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merkn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pørsmå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forklar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vegelse,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særegen adferd,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ærskilt ettertrykk,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uvanlig tonefal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hastverk eller nøling </a:t>
            </a:r>
            <a:endParaRPr b="0" lang="en-US" sz="1800" spc="-1" strike="noStrike">
              <a:solidFill>
                <a:srgbClr val="000066"/>
              </a:solidFill>
              <a:latin typeface="Times New Roman"/>
            </a:endParaRPr>
          </a:p>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må spilleren omhyggelig unngå å utnytte den på noen som helst måte som kan være fordelaktig for egen side.</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5600D4D7-F0CD-4F39-8962-9668E7D38069}" type="slidenum">
              <a:t>4</a:t>
            </a:fld>
          </a:p>
        </p:txBody>
      </p:sp>
      <p:sp>
        <p:nvSpPr>
          <p:cNvPr id="6" name="PlaceHolder 5"/>
          <p:cNvSpPr>
            <a:spLocks noGrp="1"/>
          </p:cNvSpPr>
          <p:nvPr>
            <p:ph type="dt" idx="1"/>
          </p:nvPr>
        </p:nvSpPr>
        <p:spPr/>
        <p:txBody>
          <a:bodyPr/>
          <a:p>
            <a:fld id="{A9A46D03-0C09-446A-935A-6F3A8CEEA25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 Variasjoner i tempo eller spillemåte</a:t>
            </a:r>
            <a:r>
              <a:rPr b="1" lang="en-US" sz="4400" spc="-1" strike="noStrike">
                <a:solidFill>
                  <a:srgbClr val="000066"/>
                </a:solidFill>
                <a:latin typeface="Arial"/>
                <a:ea typeface="Arial"/>
              </a:rPr>
              <a:t> </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1. UFRIVIL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0" lang="en-US" sz="18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2. FORSETT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n spiller må ikke prøve å villede en motstander ved hjelp av bemerkning eller bevegelse, ved å skynde seg eller nøle med en melding eller et spill (som når man nøler før man spiller en singleton), eller gjennom måten meldinger eller spillet blir gjennomført på.</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1743540-C7CA-4C2A-AAEB-2E108425A555}" type="slidenum">
              <a:t>5</a:t>
            </a:fld>
          </a:p>
        </p:txBody>
      </p:sp>
      <p:sp>
        <p:nvSpPr>
          <p:cNvPr id="6" name="PlaceHolder 5"/>
          <p:cNvSpPr>
            <a:spLocks noGrp="1"/>
          </p:cNvSpPr>
          <p:nvPr>
            <p:ph type="dt" idx="1"/>
          </p:nvPr>
        </p:nvSpPr>
        <p:spPr/>
        <p:txBody>
          <a:bodyPr/>
          <a:p>
            <a:fld id="{7CB2A5A8-0E4D-4AD2-BA66-CA46829F7B1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Arial"/>
              </a:rPr>
              <a:t>E.  NARRING</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Arial"/>
              </a:rPr>
              <a:t>Det er korrekt for alle spillere å prøve å narre en motstander med en melding eller et spill </a:t>
            </a:r>
            <a:r>
              <a:rPr b="1" lang="en-US" sz="2800" spc="-1" strike="noStrike">
                <a:solidFill>
                  <a:srgbClr val="000066"/>
                </a:solidFill>
                <a:latin typeface="Arial"/>
                <a:ea typeface="Arial"/>
              </a:rPr>
              <a:t>(</a:t>
            </a:r>
            <a:r>
              <a:rPr b="1" lang="en-US" sz="2800" spc="-1" strike="noStrike" u="sng">
                <a:solidFill>
                  <a:srgbClr val="000066"/>
                </a:solidFill>
                <a:uFillTx/>
                <a:latin typeface="Arial"/>
                <a:ea typeface="Arial"/>
              </a:rPr>
              <a:t>så lenge narringen ikke er beskyttet av en skjult makkeravtale eller erfaring</a:t>
            </a:r>
            <a:r>
              <a:rPr b="1" lang="en-US" sz="2800" spc="-1" strike="noStrike">
                <a:solidFill>
                  <a:srgbClr val="000066"/>
                </a:solidFill>
                <a:latin typeface="Arial"/>
                <a:ea typeface="Arial"/>
              </a:rPr>
              <a:t>).</a:t>
            </a:r>
            <a:r>
              <a:rPr b="0" lang="en-US" sz="2800" spc="-1" strike="noStrike">
                <a:solidFill>
                  <a:srgbClr val="990000"/>
                </a:solidFill>
                <a:latin typeface="Arial"/>
                <a:ea typeface="Arial"/>
              </a:rPr>
              <a:t> </a:t>
            </a:r>
            <a:br>
              <a:rPr sz="2800"/>
            </a:br>
            <a:r>
              <a:rPr b="0" lang="en-US" sz="2800" spc="-1" strike="noStrike">
                <a:solidFill>
                  <a:srgbClr val="990000"/>
                </a:solidFill>
                <a:latin typeface="Arial"/>
                <a:ea typeface="Arial"/>
              </a:rPr>
              <a:t>Det er fullstendig korrekt å unnlate å gi informasjon til motstanderne, ved å melde og spille uten minste variasjon i tempo eller måte.</a:t>
            </a:r>
            <a:br>
              <a:rPr sz="2800"/>
            </a:br>
            <a:r>
              <a:rPr b="0" lang="en-US" sz="2800" spc="-1" strike="noStrike">
                <a:solidFill>
                  <a:srgbClr val="990000"/>
                </a:solidFill>
                <a:latin typeface="Arial"/>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B9EA7911-FF73-45B8-A8DC-58A4FC3B772B}" type="slidenum">
              <a:t>6</a:t>
            </a:fld>
          </a:p>
        </p:txBody>
      </p:sp>
      <p:sp>
        <p:nvSpPr>
          <p:cNvPr id="6" name="PlaceHolder 5"/>
          <p:cNvSpPr>
            <a:spLocks noGrp="1"/>
          </p:cNvSpPr>
          <p:nvPr>
            <p:ph type="dt" idx="1"/>
          </p:nvPr>
        </p:nvSpPr>
        <p:spPr/>
        <p:txBody>
          <a:bodyPr/>
          <a:p>
            <a:fld id="{796D058D-3CE4-4D0B-A409-BE17C762A45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F. Brudd på de etiske reglene</a:t>
            </a:r>
            <a:endParaRPr b="0" lang="en-US" sz="36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Når et brudd på de etiske reglene som beskrevet i denne paragraf fører til skade for en uskyldig motstander, skjer følgende:</a:t>
            </a:r>
            <a:endParaRPr b="0" lang="en-US" sz="2000" spc="-1" strike="noStrike">
              <a:solidFill>
                <a:srgbClr val="990000"/>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Hvis det er påvist at en spiller har handlet ut fra UI. </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spiller blant logiske alternative handlingsmåter valgte en som beviselig kan antas å ha vært antydet fremfor en annen, gjennom makkers bemerkning, adferd, tempo eller lignende, skal TL tildele et justert resultat (se § 16).</a:t>
            </a:r>
            <a:endParaRPr b="0" lang="en-US" sz="1800" spc="-1" strike="noStrike">
              <a:solidFill>
                <a:srgbClr val="000066"/>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Hvis en spiller er påført skade ved ulovlig narring</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uskyldig spiller har trukket en feilaktig slutning av en bemerkning, adferd, tempo eller lignende, og motstanderen som narret spilleren </a:t>
            </a:r>
            <a:endParaRPr b="0" lang="en-US" sz="1800" spc="-1" strike="noStrike">
              <a:solidFill>
                <a:srgbClr val="000066"/>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ikke hadde noen bridgemessig grunn for handlingen</a:t>
            </a:r>
            <a:r>
              <a:rPr b="0" lang="nb-NO" sz="1400" spc="-1" strike="noStrike">
                <a:solidFill>
                  <a:srgbClr val="990000"/>
                </a:solidFill>
                <a:latin typeface="Arial"/>
                <a:ea typeface="Arial"/>
              </a:rPr>
              <a:t>, og på det tidspunkt da handlingen ble begått </a:t>
            </a:r>
            <a:endParaRPr b="0" lang="en-US" sz="1400" spc="-1" strike="noStrike">
              <a:solidFill>
                <a:srgbClr val="990000"/>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kunne vite at handlingen kunne tjene til egen fordel</a:t>
            </a:r>
            <a:r>
              <a:rPr b="0" lang="nb-NO" sz="1400" spc="-1" strike="noStrike">
                <a:solidFill>
                  <a:srgbClr val="990000"/>
                </a:solidFill>
                <a:latin typeface="Arial"/>
                <a:ea typeface="Arial"/>
              </a:rPr>
              <a:t>, </a:t>
            </a:r>
            <a:endParaRPr b="0" lang="en-US" sz="14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skal TL tildele et justert resultat (se §12).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800144D6-B8EF-42BD-BAF7-7DAF54F9377F}" type="slidenum">
              <a:t>7</a:t>
            </a:fld>
          </a:p>
        </p:txBody>
      </p:sp>
      <p:sp>
        <p:nvSpPr>
          <p:cNvPr id="6" name="PlaceHolder 5"/>
          <p:cNvSpPr>
            <a:spLocks noGrp="1"/>
          </p:cNvSpPr>
          <p:nvPr>
            <p:ph type="dt" idx="1"/>
          </p:nvPr>
        </p:nvSpPr>
        <p:spPr/>
        <p:txBody>
          <a:bodyPr/>
          <a:p>
            <a:fld id="{F16DA0B8-44C4-45E3-ABF6-6CB998BA733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og § 16</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rudd på reglene i § 73 er kilden til urettmessig informasjon fra makker.</a:t>
            </a:r>
            <a:br>
              <a:rPr sz="3600"/>
            </a:br>
            <a:r>
              <a:rPr b="0" lang="en-US" sz="3600" spc="-1" strike="noStrike">
                <a:solidFill>
                  <a:srgbClr val="990000"/>
                </a:solidFill>
                <a:latin typeface="Times New Roman"/>
              </a:rPr>
              <a:t>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anlige bruddene på de etiske reglene i § 73 og konsekvensen av dem er omtalt i forbindelse med § 16.</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5CF4A37D-D35C-49FF-BAA8-95A8C4BBF44F}" type="slidenum">
              <a:t>8</a:t>
            </a:fld>
          </a:p>
        </p:txBody>
      </p:sp>
      <p:sp>
        <p:nvSpPr>
          <p:cNvPr id="6" name="PlaceHolder 5"/>
          <p:cNvSpPr>
            <a:spLocks noGrp="1"/>
          </p:cNvSpPr>
          <p:nvPr>
            <p:ph type="dt" idx="1"/>
          </p:nvPr>
        </p:nvSpPr>
        <p:spPr/>
        <p:txBody>
          <a:bodyPr/>
          <a:p>
            <a:fld id="{6D85F4D3-1CFF-4B99-BB7D-EA3DD90ECA1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Ulovlig narring</a:t>
            </a:r>
            <a:endParaRPr b="0" lang="en-US" sz="4400" spc="-1" strike="noStrike">
              <a:solidFill>
                <a:srgbClr val="000066"/>
              </a:solidFill>
              <a:latin typeface="Times New Roman"/>
            </a:endParaRPr>
          </a:p>
        </p:txBody>
      </p:sp>
      <p:sp>
        <p:nvSpPr>
          <p:cNvPr id="60" name="PlaceHolder 2"/>
          <p:cNvSpPr>
            <a:spLocks noGrp="1"/>
          </p:cNvSpPr>
          <p:nvPr>
            <p:ph/>
          </p:nvPr>
        </p:nvSpPr>
        <p:spPr>
          <a:xfrm>
            <a:off x="228600" y="1523880"/>
            <a:ext cx="86868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a:t>
            </a:r>
            <a:r>
              <a:rPr b="0" lang="nb-NO" sz="2400" spc="-1" strike="noStrike">
                <a:solidFill>
                  <a:srgbClr val="990000"/>
                </a:solidFill>
                <a:latin typeface="Arial"/>
                <a:ea typeface="Arial"/>
              </a:rPr>
              <a:t>det er bare for motstanderne det er korrekt å trekke slutninger av slike variasjoner, og de gjør det på egen risiko.”</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rPr>
              <a:t>ikke hadde noen bridgemessig grunn”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ea typeface="Arial"/>
              </a:rPr>
              <a:t>kunne vite at handlingen kunne tjene til egen fordel”</a:t>
            </a:r>
            <a:endParaRPr b="0" lang="en-US" sz="2000" spc="-1" strike="noStrike">
              <a:solidFill>
                <a:srgbClr val="000066"/>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ea typeface="Arial"/>
              </a:rPr>
              <a:t>Ulovlig narring skal fører til tideling av en justert score.</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ea typeface="Arial"/>
              </a:rPr>
              <a:t>Denne tildeles etter reglene i § 12 C2 og § 12 C3.</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siden som har narret pådrar seg verst tenkelige score</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andre siden skal ha den mest sannsynlige score gjerne med å bruke §12C3</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t at spilleren egentlig visste at han med tenkepausen ikke hadde grunn til å tenke (”ingen tenker med Dxx foran KJxx”) er kun et av momentene i erstatningsutmålingen.</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1F299A1A-E8E0-4326-8B20-20D5D4A53BFD}" type="slidenum">
              <a:t>9</a:t>
            </a:fld>
          </a:p>
        </p:txBody>
      </p:sp>
      <p:sp>
        <p:nvSpPr>
          <p:cNvPr id="6" name="PlaceHolder 5"/>
          <p:cNvSpPr>
            <a:spLocks noGrp="1"/>
          </p:cNvSpPr>
          <p:nvPr>
            <p:ph type="dt" idx="1"/>
          </p:nvPr>
        </p:nvSpPr>
        <p:spPr/>
        <p:txBody>
          <a:bodyPr/>
          <a:p>
            <a:fld id="{5E0AA3A8-9527-4267-97F3-3E749AF8B23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23:31Z</dcterms:created>
  <dc:creator>Per Nordland</dc:creator>
  <dc:description/>
  <dc:language>en-US</dc:language>
  <cp:lastModifiedBy>Per Nordland</cp:lastModifiedBy>
  <dcterms:modified xsi:type="dcterms:W3CDTF">2002-04-27T07:52:43Z</dcterms:modified>
  <cp:revision>3</cp:revision>
  <dc:subject/>
  <dc:title>§ 73 Kommunikasjon mellom makkere</dc:title>
</cp:coreProperties>
</file>